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40F-26FB-47BE-967F-1AA47B21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28A-F3E8-4BB2-A58B-62B430D5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D70F-DC64-4AEE-A59E-28575652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CE33-84F2-4FCD-B482-372B6764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CAE-CE10-4D7A-A801-CD30A2D4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B16-B3A3-4E3D-9AE3-A8084514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646-2354-488E-8B84-29CDF1C5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0D5-E1C5-4829-9385-77B47463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086-7D9D-4CCB-9E3A-C86E85F5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B41-1D53-48B7-A619-E61BA7C0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AFD-6156-484A-8741-B2BABBE0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163-DFEF-4C93-A124-36339C91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693900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6939000"/>
            <a:ext cx="3216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693900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7DAD-E732-49DD-9D5A-18B9C539E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74640" y="5029200"/>
            <a:ext cx="1981440" cy="152388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94160" y="380880"/>
            <a:ext cx="2057400" cy="161460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79760" y="1981080"/>
            <a:ext cx="2057400" cy="153828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37160" y="1981080"/>
            <a:ext cx="2057400" cy="153828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89040" y="3505320"/>
            <a:ext cx="1981440" cy="152388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9040" y="3505320"/>
            <a:ext cx="1981440" cy="152388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22760" y="380880"/>
            <a:ext cx="152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- 12"/>
              </a:rPr>
              <a:t>Who is the characte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13280" y="205740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- 12"/>
              </a:rPr>
              <a:t>What did the character d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94360" y="2057400"/>
            <a:ext cx="103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- 12"/>
              </a:rPr>
              <a:t>Why did he do i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64360" y="76320"/>
            <a:ext cx="193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- 16"/>
              </a:rPr>
              <a:t>The Wave</a:t>
            </a:r>
            <a:r>
              <a:rPr b="0" lang="en-US" sz="1200" spc="-1" strike="noStrike">
                <a:solidFill>
                  <a:srgbClr val="000000"/>
                </a:solidFill>
                <a:latin typeface="Arial - 16"/>
              </a:rPr>
              <a:t> Attribute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46240" y="3505320"/>
            <a:ext cx="130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- 12"/>
              </a:rPr>
              <a:t>Why is the character's name well chosen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1360" y="3505320"/>
            <a:ext cx="13636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- 12"/>
              </a:rPr>
              <a:t>What is the nature of this character's actions?</a:t>
            </a:r>
            <a:r>
              <a:rPr b="0" lang="en-US" sz="800" spc="-1" strike="noStrike">
                <a:solidFill>
                  <a:srgbClr val="000000"/>
                </a:solidFill>
                <a:latin typeface="Arial - 10"/>
              </a:rPr>
              <a:t>(reactive, active, important, consequential, seconda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56480" y="3505320"/>
            <a:ext cx="14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- 12"/>
              </a:rPr>
              <a:t>What is the significance of the book's time and place to the characte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3240" y="5105520"/>
            <a:ext cx="140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- 12"/>
              </a:rPr>
              <a:t>What is unusual or improtant about the characte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60640" y="5105520"/>
            <a:ext cx="1355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- 12"/>
              </a:rPr>
              <a:t>How does the character change in the stor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42080" y="5105520"/>
            <a:ext cx="15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- 12"/>
              </a:rPr>
              <a:t>Does the character remind you of another character from another book? Wh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99480" y="5105520"/>
            <a:ext cx="1388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- 12"/>
              </a:rPr>
              <a:t>Do you know anyone similar to this characte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70480" y="3505320"/>
            <a:ext cx="1981080" cy="152388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51560" y="3505320"/>
            <a:ext cx="1981080" cy="152388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56080" y="5029200"/>
            <a:ext cx="1981080" cy="152388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37160" y="5029200"/>
            <a:ext cx="1981080" cy="152388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18240" y="5029200"/>
            <a:ext cx="1981440" cy="1523880"/>
          </a:xfrm>
          <a:custGeom>
            <a:avLst/>
            <a:gdLst/>
            <a:ahLst/>
            <a:rect l="l" t="t" r="r" b="b"/>
            <a:pathLst>
              <a:path w="873" h="873">
                <a:moveTo>
                  <a:pt x="0" y="0"/>
                </a:moveTo>
                <a:lnTo>
                  <a:pt x="872" y="0"/>
                </a:lnTo>
                <a:lnTo>
                  <a:pt x="872" y="872"/>
                </a:lnTo>
                <a:lnTo>
                  <a:pt x="0" y="872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94160" y="609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56080" y="23623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ried to get everyone in The W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37160" y="24382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he want to get the football team in it so they could possibly win some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65360" y="3809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he had a big role in the book and I liked his attitude towards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70480" y="41911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s the wide receiver for the football team and he is very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27880" y="388620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in 1969 and they wanted to know how did it feel for the Je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74640" y="556272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s very nice and he will think of things to get help for people or his football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2040" y="5562720"/>
            <a:ext cx="1828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irst he didn’t believe in it and towards the end he got outrages with it like he hit his girlfriend beca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37160" y="571500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Gerald from forged by f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8240" y="5562720"/>
            <a:ext cx="198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94560" y="56307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my little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22:00:24Z</dcterms:created>
  <dc:creator>Richland School District Two</dc:creator>
  <dc:description/>
  <dc:language>en-US</dc:language>
  <cp:lastModifiedBy>Richland School District Two</cp:lastModifiedBy>
  <dcterms:modified xsi:type="dcterms:W3CDTF">2011-03-31T13:57:42Z</dcterms:modified>
  <cp:revision>3</cp:revision>
  <dc:subject/>
  <dc:title>Slide 1</dc:title>
</cp:coreProperties>
</file>